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C61-DADA-4885-A740-12908BA1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BF5-01D4-4D47-A281-FA4E2430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1BC12-6712-42D6-9B5C-8BB27506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1C38B-E287-4472-94A9-311D76E1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AD4FF-62BF-453A-9FE2-15ADED16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9A857-ADA1-44D1-B9E6-0D711E83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AA5B3-640B-484E-8E2D-4AB2A16C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70EB6-BF35-4692-9A3E-345937BC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F6870-478D-4CC7-8D0F-F5E23EF0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C1E4A-7281-46EE-A64C-53E81B79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C4651-3C1E-4A12-9551-A1A66444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F35DD-D78E-4A99-ADEF-22971C21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702-C970-48C4-B0E3-081083C1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A6806-56DC-4EC3-9F4B-FDA7C2DA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F7EBC-19E6-4622-81F8-4F409408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1BF8D-0DB8-4F2B-AB4F-30B1F34B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5A3C5-C642-4D5C-B5C3-46D62C0F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67163-800A-4DA4-9F3A-898E1F65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04371-161C-42C6-960E-D50F215E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D6DC8-284C-4DCF-86B1-E4086E02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F281C-FEE0-4BE4-9BD1-E2A37A0B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0C233-7F80-4305-B040-B93A2CD7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81FFF-4EE4-4F79-9EC1-26A6E445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6AC-AA28-4C99-9210-49DCFEAA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11148-0293-496C-91A9-92E73DED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93723-9A9F-4491-AF18-1AD6CFB1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70092-D221-46E7-AFAA-98B2F6A8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6C556-1661-4AF0-8A49-EAAF7544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E9E14-3826-4C3D-A8D1-FD38793A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FCC98-8EA8-4715-9837-0D3524FB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39BE3-E914-47FC-904B-C678EF7D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CD77D-DDCD-4534-9E06-D11F1AAB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C076D-3433-471E-A0AB-5D59DBCA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EABE0-C423-49E0-B58A-7197B058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C53E-1EF6-42CD-9864-4B2CCA51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4DF34-C551-491F-B5C3-0F093A01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6E840-FA17-46D5-950D-A9DBE8A0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1852D-25AE-42DD-8CA1-32D73F2C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965A5-4631-4304-A15B-751B2B8B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7541C-1CAF-4809-8E4F-88F15C6D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4AB2E-0422-4F50-89EC-1D01E422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621FB-5135-4441-A446-82747FA2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C7496-F69E-49D6-90B2-EAE5DD7A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985D4-C054-4526-B4EE-05973B56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0526E-DDCB-407C-9A0A-CB56DBE6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E34D-A0FA-4108-8435-78DDC7C9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657A0-9367-4E24-AE13-C78BC732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0BA15-3C20-4FA2-AD0C-7A366B62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47BA3-8024-4A32-8B00-C646EE52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D3627-BFAD-4F58-B39C-E6BFE977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C2B5E-0B9D-45D5-873D-8C0B2DEA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167E0-56D2-4CAA-9A5A-704E3531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7FE7D-1D4C-4222-A72D-8E039BA8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B8A44-AB81-4647-945F-BA4DB44D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3BB12-5B84-4AA1-9A82-4428EF32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F3340-66E6-47ED-977F-8FF5BC3E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28C6-67FF-4B17-A523-4284188D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B6A97-9ECA-4E92-978B-7AFF0422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BF456-8F37-4B08-B598-C1C63B3D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AA777-CD07-4B39-A49A-98BE7B53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FE5BF4-9111-42F5-94D6-15D57CEC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C6A09-32BD-488D-9C6F-32706BE4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ECE8B-0E77-47CA-AF38-A8D4F266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C6713-64C8-47F1-B099-E7651FD3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CF59D3-E5D2-4D03-B2F3-5C3F3035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8CD85-B38F-45ED-881F-DA361E2A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D595B-6B04-43FB-88F2-4656941C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B7DC-1A6E-4B60-ADC0-7DCD37B4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0CD6E-ABC4-497F-A448-B5C300D6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DDA1FB-BEFE-4713-9AC9-2FDD9CAB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3DDCC-F93B-49C3-ACBA-F787E9FD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6BB79-BDE2-4EC9-B635-8CFCC2B9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CFE4A-625B-47F6-87B0-69E6F2D2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A67E6C-853D-4922-A242-B04E67B8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0A777-3367-407A-A66D-F1C126C7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DE3F1-6ED2-41C6-9A6B-34133F41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DFEF30-52B4-4E16-9767-D76ABF8C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BA515D-C964-4E7E-8FA6-9D117ACF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36B6-5287-4299-994E-0DD7DF51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BD937F-21A6-4F9E-BCA6-82A32B62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335764-3E10-4B9B-9A93-9778F059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7625E-469D-4C44-880E-E862EC9D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C5A7C5-CDC0-4D28-BF1A-FFE15359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EE2755-66BA-424D-A2C5-CD488310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96CEB-CD46-48CD-AB4D-445EE6C0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FEB594-363A-4C5E-89B2-A34B3719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56E916-E733-4784-8F6D-F91D8D83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3728C-583E-4B68-99CB-302C7011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841751-14AB-4DE0-B6A3-12763309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2ED9-E963-4355-A308-4096013C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989A44-8AEC-4981-A462-327B4144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FD766-00D5-437F-BE4B-F4037004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F7058-FAA3-4EF6-997C-E324E93E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047635-BA62-4FCE-86A0-AF643EFF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020C83-6556-473D-926F-80C18CFE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33EA10-55DF-46D7-A51C-4C7BC67D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01D9F9-DDAF-43F8-A3AE-AC0BA388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1E0693-FED9-4D54-8873-E70303D2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04F245-5769-4361-8A67-D792D0B4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F6B4FB-A774-4A90-B403-A2F9E2DD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6A7C-15DD-4F9A-AD5E-4BCFD55E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9D4238-D235-45E6-B668-8E8FE5EA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D15C1-5C52-45A0-AC1D-B0121F74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84B7E7-FC15-4115-8A7C-11F8A7B2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00C955-7054-45CC-9B92-3AA0369F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4C55AB-3618-4DB4-8AF4-5E25C61C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575BEC-4172-4893-9956-4BA6092B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7C720C-8CD4-4559-9A8B-8F47CF87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030448-F16F-4DA4-BFBF-23D90D22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72CC48-F7EF-4F0F-9E02-2EF2106F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6C83C3-21FD-4174-AB42-4C5BF0B7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3F6-10EE-4AC3-9C57-3906C149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4561-231D-4D1C-A568-A3C54746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2DFDE3-F8C7-44F0-A96C-80340251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A534B5-EC24-4B89-95F3-95D1865D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961168-864A-41F7-8282-1625F110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FB6FC6-D49D-4A63-ABDF-C380CA98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C7B409-5ACE-4E67-B5D5-E247FF38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9840A1-27CC-43F1-A28D-5F453210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9DA390-21BC-4A95-B8B2-E0C7DBBC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949895-1520-47EB-8413-BE0F4422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B3BEA-C263-4C20-B0D9-E1D03286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D227F8-0FA9-4D85-BB4A-F484BC08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A700-5EB3-4553-8079-3C6CE4CE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7440D8-1038-4001-9AAC-8E073389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D476B7-0646-4F80-B506-A8873E02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FC63B8-6CD6-49E6-A3F9-F3413256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A675C6-8FE8-43FF-8A71-2E874987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F085CF-AFEF-40E9-9629-F56C1DD2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E6C322-EC99-46C0-A18A-8F315526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BA294C-146D-4752-B087-1F54E743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CFAD0A-8895-42E7-A9F7-AA482B73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C02337-AA8A-4ABC-BE3D-D48A83FB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318C56-2922-4543-803C-0B732C6B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B756-295D-4DDE-8DDF-6D561A34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494655-A241-4A1E-BB6F-1C654C24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EE7B92-9A69-410F-9528-539290D4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BC802B-3D55-4444-8C4F-6E9CF93B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580CD4-2977-4CE3-B26E-1750DA9E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852E69-743F-4944-9360-F832A574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2CC240-FACE-44B4-99C1-5BD497ED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0B5624-FCD7-43DD-AADA-81F92555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0C33B2-4375-4E3A-8961-1FBDDE0B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B0A71B-D267-4C22-A7A7-67070E16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4318A5-3E1F-44F9-99C1-F5A67542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C883-8443-4544-A659-A3CA5401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2D1858-F8FD-4C00-A7DB-A6729B2D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B4C1F3-B401-4B23-A440-0E413E37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9C8BFA-44EB-4FA8-8779-B9B28621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8B4464-25EF-4F7A-B4A7-B8C32117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EEA047-A8FB-4700-80F6-225970C6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36605C-23B0-4169-9916-6CB51F60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4A0C61-47C3-4785-A4D9-F3493601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0E57F1-03EC-4D2A-8D0B-005BC0C3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CD1B4D-784A-435A-B7EF-D2AC178E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3A88B1-7A71-4145-9E36-77B279D3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5D50-9101-4F11-AB98-9949D272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4FCDA9-AC4F-4617-BC84-847E2561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F952FA-B36D-42FE-B1E2-80C632A3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C53AFA-6C34-4172-A4ED-201EFD5B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749A4F-C69A-42F0-8A7B-26A470C7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C53F71-6FEC-45F2-AC8D-4B49DA06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CC86D6-75EC-4FFB-9655-748915F1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0C2470-7226-4299-9402-C84283BD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A46B85-018C-4A9C-9DA0-C8A7908E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E0FA63-95E6-4FDF-A163-5B7D525E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938619-CB54-4948-96B3-BF3745B4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BB7C9-1ACA-4F4A-844F-0DCFCC60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05A112-0E93-41D5-A00B-15143CF8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861238-846E-4BBD-A1D1-35441292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DB88E8-2F47-404C-98BE-0886E566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02ED5-6546-4366-A6BB-D35662F5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E9CAF-0441-4BD9-874C-6B5AFF92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30087-CF35-4E2D-99B6-5D71C808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AB8BC-28E8-4339-A51A-64489D7E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F60-A3F8-445B-8906-441E1FCE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5A225-61EF-470D-96CA-E1DF6D95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374BE-94EB-4763-835C-FD386554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A3D9F-9752-43BB-96A4-5BE5A364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6C516-6374-4272-8457-B30BF45D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9CC79-B5EA-49E9-AC18-26809EB4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7D82-53F6-4146-A30B-A2B4E5E1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06C13-2846-45D3-A19F-347B44D8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0E255-CCB5-4F47-9C53-74AC37BC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757DD-CEAF-42D0-9576-DF4F2C97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DA4EF-3CFE-41F4-ACAE-1C3F7DAA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414-C51A-4C0A-8277-122A1F60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43DE8-6EB2-4456-9AD9-B79DD52B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5386F-A282-48E6-AFA7-F79C651E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B5B1F-6F36-4B2B-9BEB-915C4D9E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617CD-E184-4121-A3E0-D57D434A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00A15-0DBB-415A-A641-7B5A8146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4EC39-3ABA-44A2-9D88-08BDB594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8522A-B306-45D5-A298-7B30AB9F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E99CF-614A-4764-B581-332AB904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90B83-8EAD-4CA6-AED2-3EC98798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195EC-62DA-4815-878F-4FDF25AB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916-92EE-4FDD-B824-22510051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DEEE6-300E-4881-861D-2050D3E4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0E307-1C84-4B72-B2A0-D47F138F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88A61-5F98-47C8-BF80-0B6C9A09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F0DFD-1CC2-4AB1-AE00-EDF97BA0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371A2-A276-4968-9BFD-F8C00198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EF79E-B161-4470-A9AB-018139EE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4E36D-BA6E-49FA-A224-D5DD6963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DDEEB-C46E-45E6-87EF-3FD294B8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94610-C768-46D2-B383-2B167BEF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7BD6D-38C9-44BB-9FB3-2C60FCD0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168-5DB9-454D-A80D-59601957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564AD-58F9-4F71-B579-E2327B30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098F5-F16E-4699-BA0E-83A0CE48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8E68F-DA4C-47A3-9CD5-04E87ECB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E1F28-B535-4405-B3EC-0F1E89A2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FCC50-3F98-455A-9F0A-0825A413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435FD-F2A8-4566-A8E6-758AD155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B076D-49C4-48F3-93A7-F3A33DA8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648CD-DE5D-4FA5-890F-F65B0B1B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D08EF-5726-49C6-ADDB-3E19D4CA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70CCC-6B90-4F9A-BF43-CD689F64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A5A-D515-40C3-9D05-8C44F6B3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08D33-744A-44F9-8F09-0369181F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C48F0-8F24-49A8-9AFB-6F029921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1F519-1407-4DF5-8A44-E251D38C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B5AC4-CAA0-4E55-B62B-8FF5E6B8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25DAF-1B1F-43EB-A9C8-34D0703F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29022-F465-4CC1-9F38-9094A4B8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C1735-1CF3-4B2E-9CA5-22B9781B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34793-4207-41DB-BC73-58AC925B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81C83-4DE2-489A-B9F9-60DC057B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BF0E9-82B8-4EAE-BA1C-511F59D8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92B-C456-4553-BE2C-417FC0DE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915AA-78F2-4164-9763-0928164C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31585-3279-4011-AAE7-96784A0A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D5DEF-22A4-413B-ADD0-8E6ACC7D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74BB3-89C4-4526-A0FE-675CC891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89C88-0ABD-436A-AEA2-BDDF0869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8AD69-40A9-4089-879B-E3FE76B5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D9A73-809F-4FA2-93D8-CBD5D5CE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8EDC8-B159-49E7-AD36-3522432F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7C53B-48D3-4E83-8C46-E6862DD0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9BEA6-0532-46FA-A0E6-1778A722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C43-F037-47C7-942E-6FD16B38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ABD89-A425-453B-A6E7-2CCAA8C5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0C15D-4DB1-42F4-BBCF-E0846F90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59CD9-47EC-4E00-A475-C3CEC147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44F8E-FBBC-4D9E-B7A1-88403703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836B6-4BC1-4320-8D4D-C9DA9327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437B9-9DE8-42DB-814A-1B9BBECA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82F90-1B40-4BE2-877F-98C2D5AA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DABFF-37C2-4563-B09A-4C139DF6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CED63-DD79-4E0A-9BA2-6D25E8E8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9574F-B2ED-400F-BB7D-318A25EF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A7A2-1753-4161-9F27-9A762FE0F8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8748-6279-49F8-9B5D-EDCFED23F3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E640-2365-41C1-BE1D-D0621BE101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D718-512F-4FC5-8A13-402C369A7F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6AD4-309D-4319-9961-E8C24E81CC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5CD5-09CF-479B-A412-1D9E394A28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D07C-CAA8-4A34-81AD-6D23350F49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04F7-EF02-42D0-9567-E8259CF290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3670-B346-459E-9AE9-31FB7C6296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4A32-62E8-4211-AD7A-6C3728C0EA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9945-15CA-4432-B39E-95EFF9E183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59D9-5D5B-4FEA-845F-94742B2AD5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7766-F85A-4C58-ADD0-A3730D0384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B048-D013-4468-9D83-3DBACA21F4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C0A0-C604-4613-A6F5-68056AF8E4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BB66-22F1-4A33-8040-D01241E130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C5D6-8701-4B93-8AB2-01FEF32E62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CF5D-2A13-4F58-AC29-0A458A3BBF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3568-ED70-475E-BAE3-409F5815E4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E83D-EA2B-4B7E-947A-72A377A748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C974-3108-4F41-AA1C-690F020A64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3AC3-4CF1-4190-8F4D-49C70E43AB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6AA1-6C85-4195-AE2E-84C825A21A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4EC0-47D2-4EEA-A255-7D6E1EC6DB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D71C-7F28-4365-BDC2-EA3B5686E6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1A86-E907-4F82-926F-8A8F9C317F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A51B-921B-493E-ADC3-B8D51D5750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70BF-F537-42AF-8EEA-ABC7C7FF47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BA5A-EFBE-4A16-9676-64B80EE878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4E6C-6320-4041-AE02-E6E00B0372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1164-1A38-418A-8944-DB11A7C860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979E-9B8B-4AB3-81D9-E10BD3D859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8627-8A66-4AA3-9817-8B2CF918AC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A19F-1614-48C4-A4D8-C04A987761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AF20-FB89-43DA-B0BA-B19BD730CD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4401-12C2-41CE-9C55-ECD8DD909C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3D95-1C16-4D9D-BDB2-46BCE574F4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2281-7FA3-4E66-A354-3894607C92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81CE-AB25-4832-AF23-08B02D8149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FD55-5916-4EB2-9422-DCD157CDED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17440" y="1687680"/>
            <a:ext cx="8675640" cy="7333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72880" y="3284640"/>
            <a:ext cx="8402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826920" y="79200"/>
            <a:ext cx="6769440" cy="6518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700360" y="3284640"/>
            <a:ext cx="720720" cy="4982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1692360" y="4005360"/>
            <a:ext cx="576000" cy="4982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2843280" y="4005360"/>
            <a:ext cx="576360" cy="4982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3924360" y="4005360"/>
            <a:ext cx="576360" cy="4982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2771640" y="5445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5954760" y="3284640"/>
            <a:ext cx="576360" cy="4982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5219640" y="4005360"/>
            <a:ext cx="576360" cy="4982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5940360" y="4005360"/>
            <a:ext cx="576360" cy="4982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6659640" y="4005360"/>
            <a:ext cx="576360" cy="4982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1"/>
          <a:stretch/>
        </p:blipFill>
        <p:spPr>
          <a:xfrm>
            <a:off x="5954760" y="5445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2"/>
          <a:stretch/>
        </p:blipFill>
        <p:spPr>
          <a:xfrm>
            <a:off x="1258920" y="6194520"/>
            <a:ext cx="388944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9410" descr=""/>
          <p:cNvPicPr/>
          <p:nvPr/>
        </p:nvPicPr>
        <p:blipFill>
          <a:blip r:embed="rId1"/>
          <a:stretch/>
        </p:blipFill>
        <p:spPr>
          <a:xfrm>
            <a:off x="285840" y="804960"/>
            <a:ext cx="8572320" cy="52480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6804000" y="422100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3492360" y="4869000"/>
            <a:ext cx="720720" cy="4982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7667640" y="4913280"/>
            <a:ext cx="7207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8373" descr=""/>
          <p:cNvPicPr/>
          <p:nvPr/>
        </p:nvPicPr>
        <p:blipFill>
          <a:blip r:embed="rId1"/>
          <a:stretch/>
        </p:blipFill>
        <p:spPr>
          <a:xfrm>
            <a:off x="623880" y="720720"/>
            <a:ext cx="7896240" cy="58770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6443640" y="76500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720720" cy="4982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7236000" y="1413000"/>
            <a:ext cx="865080" cy="4982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6516720" y="270828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6"/>
          <a:stretch/>
        </p:blipFill>
        <p:spPr>
          <a:xfrm>
            <a:off x="3132000" y="337176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7"/>
          <a:stretch/>
        </p:blipFill>
        <p:spPr>
          <a:xfrm>
            <a:off x="7164360" y="337176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8"/>
          <a:stretch/>
        </p:blipFill>
        <p:spPr>
          <a:xfrm>
            <a:off x="5724360" y="466740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9"/>
          <a:stretch/>
        </p:blipFill>
        <p:spPr>
          <a:xfrm>
            <a:off x="2340000" y="596412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0"/>
          <a:stretch/>
        </p:blipFill>
        <p:spPr>
          <a:xfrm>
            <a:off x="6227640" y="5964120"/>
            <a:ext cx="1008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7352" descr=""/>
          <p:cNvPicPr/>
          <p:nvPr/>
        </p:nvPicPr>
        <p:blipFill>
          <a:blip r:embed="rId1"/>
          <a:stretch/>
        </p:blipFill>
        <p:spPr>
          <a:xfrm>
            <a:off x="604800" y="809640"/>
            <a:ext cx="7934400" cy="52387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1258920" y="4164120"/>
            <a:ext cx="4176720" cy="4982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1042920" y="4797360"/>
            <a:ext cx="4176720" cy="4986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1042920" y="5459400"/>
            <a:ext cx="4176720" cy="4986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6084720" y="4164120"/>
            <a:ext cx="2590920" cy="4982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6012000" y="4797360"/>
            <a:ext cx="2590560" cy="4986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7"/>
          <a:stretch/>
        </p:blipFill>
        <p:spPr>
          <a:xfrm>
            <a:off x="6084720" y="5445000"/>
            <a:ext cx="25909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6324" descr=""/>
          <p:cNvPicPr/>
          <p:nvPr/>
        </p:nvPicPr>
        <p:blipFill>
          <a:blip r:embed="rId1"/>
          <a:stretch/>
        </p:blipFill>
        <p:spPr>
          <a:xfrm>
            <a:off x="1395360" y="1495440"/>
            <a:ext cx="6353280" cy="38671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1908000" y="3386160"/>
            <a:ext cx="6048720" cy="4986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1692360" y="4019400"/>
            <a:ext cx="6048360" cy="4986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1619280" y="4667400"/>
            <a:ext cx="60483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5300" descr=""/>
          <p:cNvPicPr/>
          <p:nvPr/>
        </p:nvPicPr>
        <p:blipFill>
          <a:blip r:embed="rId1"/>
          <a:stretch/>
        </p:blipFill>
        <p:spPr>
          <a:xfrm>
            <a:off x="262080" y="1343160"/>
            <a:ext cx="8619840" cy="41716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755640" y="2809800"/>
            <a:ext cx="7345440" cy="4986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611280" y="3443400"/>
            <a:ext cx="7345440" cy="4982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755640" y="4076640"/>
            <a:ext cx="7345440" cy="4986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611280" y="4738680"/>
            <a:ext cx="82818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54276" descr=""/>
          <p:cNvPicPr/>
          <p:nvPr/>
        </p:nvPicPr>
        <p:blipFill>
          <a:blip r:embed="rId1"/>
          <a:stretch/>
        </p:blipFill>
        <p:spPr>
          <a:xfrm>
            <a:off x="204840" y="1100160"/>
            <a:ext cx="8734320" cy="46576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755640" y="2593800"/>
            <a:ext cx="4032360" cy="4986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539640" y="3213000"/>
            <a:ext cx="4032360" cy="4986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826920" y="3860640"/>
            <a:ext cx="4032360" cy="4986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684360" y="4508640"/>
            <a:ext cx="4032000" cy="4982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755640" y="5157720"/>
            <a:ext cx="8388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52231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8715600" cy="121932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52232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7877160" cy="2028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4427640" y="198900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7524720" y="1960560"/>
            <a:ext cx="1008000" cy="49860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4629240" y="2637000"/>
            <a:ext cx="720720" cy="4982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7567560" y="2637000"/>
            <a:ext cx="1108080" cy="4982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7"/>
          <a:stretch/>
        </p:blipFill>
        <p:spPr>
          <a:xfrm>
            <a:off x="2050920" y="4019400"/>
            <a:ext cx="1108080" cy="49860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8"/>
          <a:stretch/>
        </p:blipFill>
        <p:spPr>
          <a:xfrm>
            <a:off x="4932360" y="4019400"/>
            <a:ext cx="1108080" cy="4986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9"/>
          <a:stretch/>
        </p:blipFill>
        <p:spPr>
          <a:xfrm>
            <a:off x="8050320" y="4005360"/>
            <a:ext cx="928440" cy="4982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0"/>
          <a:stretch/>
        </p:blipFill>
        <p:spPr>
          <a:xfrm>
            <a:off x="2239920" y="4724280"/>
            <a:ext cx="928800" cy="49860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1"/>
          <a:stretch/>
        </p:blipFill>
        <p:spPr>
          <a:xfrm>
            <a:off x="4773600" y="4724280"/>
            <a:ext cx="928800" cy="49860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12"/>
          <a:stretch/>
        </p:blipFill>
        <p:spPr>
          <a:xfrm>
            <a:off x="7682040" y="4724280"/>
            <a:ext cx="92844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8:16:3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